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A249-0803-4984-97D5-904DB6072C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D22C-0F6F-412C-A9B0-E6343EABBB4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BAE-A7C3-42E6-A64C-EA243754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768-5BBF-493C-AD55-224BE183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B50-32B7-4A73-AF87-B9E22D3C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242-A79A-4466-9338-D850BCD8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BC3-BF41-477C-9CE8-7B706941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715-455C-4B6F-9E49-D381ECF8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0F6-2D69-4C72-B121-1C99451B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D05-0C35-4856-AD0D-53A18BBC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F3C-5C55-4638-B5BF-457831F7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C35-4A68-462F-9F54-DEC3113D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C6F-3E2F-4AED-85BA-107BACDF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8DA-1D4F-4630-BFF2-D6378FEA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73EA-04A3-4E62-9D53-EC4B99B9702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55640" y="3357720"/>
          <a:ext cx="7777080" cy="3311280"/>
        </p:xfrm>
        <a:graphic>
          <a:graphicData uri="http://schemas.openxmlformats.org/drawingml/2006/table">
            <a:tbl>
              <a:tblPr/>
              <a:tblGrid>
                <a:gridCol w="1008000"/>
                <a:gridCol w="6769080"/>
              </a:tblGrid>
              <a:tr h="1006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공모 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택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[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술주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] 1.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ICT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기술을 발전 및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Water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플랜트에 접목한 효율성 제고 방안을 제안하시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[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술주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] 2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두산중공업의 미래를 위한 유망 신기술 혹은 신재생 에너지 기술을 제안하시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[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마케팅 주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] 1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두산중공업이 보유한 기술을 활용하여 국내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CSR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차원에서 적용 가능한 새로운 아이디어를 제안하시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[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마케팅 주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] 2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전기 부족국가를 선정하고 전력난 해소를 위한 두산중공업 진출 전략을 제안하시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05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선정 배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이디어로 공모주제를 선정하게 된 배경 및 취지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55640" y="765000"/>
          <a:ext cx="7777080" cy="505080"/>
        </p:xfrm>
        <a:graphic>
          <a:graphicData uri="http://schemas.openxmlformats.org/drawingml/2006/table">
            <a:tbl>
              <a:tblPr/>
              <a:tblGrid>
                <a:gridCol w="1008000"/>
                <a:gridCol w="6769080"/>
              </a:tblGrid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팀 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55640" y="1484280"/>
          <a:ext cx="7777080" cy="1685880"/>
        </p:xfrm>
        <a:graphic>
          <a:graphicData uri="http://schemas.openxmlformats.org/drawingml/2006/table">
            <a:tbl>
              <a:tblPr/>
              <a:tblGrid>
                <a:gridCol w="1008000"/>
                <a:gridCol w="1728720"/>
                <a:gridCol w="1368720"/>
                <a:gridCol w="1655640"/>
                <a:gridCol w="1079640"/>
                <a:gridCol w="936360"/>
              </a:tblGrid>
              <a:tr h="33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화번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팀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`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3238200" cy="68724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5869080" y="20016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2013 </a:t>
            </a:r>
            <a:r>
              <a:rPr b="1" i="1" lang="ko-KR" sz="12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두산중공업 청년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Energy </a:t>
            </a:r>
            <a:r>
              <a:rPr b="1" i="1" lang="ko-KR" sz="12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공모전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표 4" descr=""/>
          <p:cNvPicPr/>
          <p:nvPr/>
        </p:nvPicPr>
        <p:blipFill>
          <a:blip r:embed="rId1"/>
          <a:stretch/>
        </p:blipFill>
        <p:spPr>
          <a:xfrm>
            <a:off x="463680" y="762120"/>
            <a:ext cx="82897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09:04:49Z</dcterms:created>
  <dc:creator>h113945</dc:creator>
  <dc:description/>
  <dc:language>en-US</dc:language>
  <cp:lastModifiedBy>황인창(Inchang Hwang) 두산중공업</cp:lastModifiedBy>
  <dcterms:modified xsi:type="dcterms:W3CDTF">2013-08-23T00:53:36Z</dcterms:modified>
  <cp:revision>26</cp:revision>
  <dc:subject/>
  <dc:title>슬라이드 1</dc:title>
</cp:coreProperties>
</file>